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835-3A6D-47EA-A308-F2868CA3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2C5-FE67-4D91-B0C8-BA474402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F36-2AC8-4B3F-9A2D-1EE1E548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BAE-E519-4EE0-8E62-801692D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A42-382B-43A4-BC94-C2299A89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E57-709C-4FF6-B212-F38963B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6D2-2237-484F-85A8-7486886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7C2-DD72-4D4F-BBE3-E2B3E541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BF7-F445-40DA-92F4-5D1E0058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81A-1021-4F64-BEB1-ED0D989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1F5-D746-431B-9708-74FEB02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036-4503-4C24-80FC-4B4F2ED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7CB4-0AFF-47B9-93C2-E0795CF2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Lib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 liberties are basic rights given to all citizens by the Constitution (speech, due process, e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WWI Americans suppressed Germa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newspapers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schools stopped teaching G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ians no longer played Bach and Beeth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erkraut was renamed “liberty cabb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gilante groups attacked anyone suspected of supporting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05160" y="380880"/>
            <a:ext cx="33526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vil Liberties During W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German-atrocities-propaganda-hoax"/>
          <p:cNvPicPr/>
          <p:nvPr/>
        </p:nvPicPr>
        <p:blipFill>
          <a:blip r:embed="rId1"/>
          <a:stretch/>
        </p:blipFill>
        <p:spPr>
          <a:xfrm>
            <a:off x="0" y="0"/>
            <a:ext cx="501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432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thinkpint.com/ripleyroots/german_american_halfway_american_cartoon.jpg"/>
          <p:cNvPicPr/>
          <p:nvPr/>
        </p:nvPicPr>
        <p:blipFill>
          <a:blip r:embed="rId1"/>
          <a:stretch/>
        </p:blipFill>
        <p:spPr>
          <a:xfrm>
            <a:off x="2849400" y="0"/>
            <a:ext cx="62946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thinkpint.com/ripleyroots/germans_life_magazine_1915.jpg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German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thinkpint.com/ripleyroots/german_american_shooting.jpg"/>
          <p:cNvPicPr/>
          <p:nvPr/>
        </p:nvPicPr>
        <p:blipFill>
          <a:blip r:embed="rId1"/>
          <a:stretch/>
        </p:blipFill>
        <p:spPr>
          <a:xfrm>
            <a:off x="3449520" y="0"/>
            <a:ext cx="56944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son and Repression of German-American Civil Lib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illions of men and women of German birth and native sympathy who live amongst us. If there should be disloyalty, it will be dealt with a firm hand of repression.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resident-woodrow-wilson-throwing-out-the-first-ball-opening-day-1916"/>
          <p:cNvPicPr/>
          <p:nvPr/>
        </p:nvPicPr>
        <p:blipFill>
          <a:blip r:embed="rId1"/>
          <a:stretch/>
        </p:blipFill>
        <p:spPr>
          <a:xfrm>
            <a:off x="4952880" y="1523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ionage &amp; Sedi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ionage Act,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Postal Service could ban certain newspapers and magazines from being m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 fine and 20 year jail to anyone who obstructed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dition Act,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it a federal offense to criticize the Constitution, the government, or the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0:38:52Z</dcterms:created>
  <dc:creator> Dan Hoppe</dc:creator>
  <dc:description/>
  <dc:language>en-US</dc:language>
  <cp:lastModifiedBy>wnichols</cp:lastModifiedBy>
  <dcterms:modified xsi:type="dcterms:W3CDTF">2010-11-08T15:09:06Z</dcterms:modified>
  <cp:revision>4</cp:revision>
  <dc:subject/>
  <dc:title>WWI Propaganda</dc:title>
</cp:coreProperties>
</file>